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move the slide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46F-66B4-4A7F-9278-6CA303EA076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D83-D735-405D-8E03-477AFA12207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E5D-E07C-46B8-AC70-A0A8AE8D2CC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797-0AB4-4F15-B792-FB8E54E9EA4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EF71-07EA-4FC1-ADD5-9DFB9C2D8C8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302-50F8-40A2-859D-DE6940FE729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ED1-337D-4E4B-89BE-9D01E149F34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B39-BED5-4367-9EF8-BE66C00ACF8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11BA-721A-4B1C-BD1A-B72D43C11A7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6D02-0062-4010-A3A9-79C71DBD190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CAD-C85A-4FCD-BEA5-DF291EDE9BF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BE0-466C-4097-B0FC-23FBD218CB1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B59-9928-49B9-9681-D935551B6E1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0439-093C-4D5B-BC10-F86545F1B53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8E0B-91A4-4DF3-BA56-72EEFACFA8B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61A-0FCB-4017-9BB2-B682F1B01A3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5DD-424E-4B6D-8C25-2272C03605A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F16-E6FD-4A8D-A93F-32147EA0F41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3645-7ECA-4D38-BA26-F86261CDB89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EC0-5064-443E-9025-DA090ABAFA9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FA2-5141-4212-A05B-8D543FE84B2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F81-2E57-4080-A5B4-3F336F6C020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D22F-5A2E-4E8E-9E2A-7FA0C134936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452-0F96-4B5D-9153-12C348B1256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4F5-C03F-48EB-BB1D-6485936974A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44ED-6A49-4580-9C18-3B3DA4857E8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3529-F32C-4633-BA36-AE549F8DD05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edit the title text forma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" name="Line 9"/>
          <p:cNvSpPr/>
          <p:nvPr/>
        </p:nvSpPr>
        <p:spPr>
          <a:xfrm flipH="1">
            <a:off x="250560" y="907920"/>
            <a:ext cx="8785080" cy="0"/>
          </a:xfrm>
          <a:prstGeom prst="line">
            <a:avLst/>
          </a:prstGeom>
          <a:ln w="19080">
            <a:solidFill>
              <a:srgbClr val="004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edit the title text forma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487e"/>
                </a:solidFill>
                <a:latin typeface="Neo Sans Intel"/>
              </a:rPr>
              <a:t>ÇOKLU ZEK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998800" y="1125360"/>
          <a:ext cx="5318280" cy="2374920"/>
        </p:xfrm>
        <a:graphic>
          <a:graphicData uri="http://schemas.openxmlformats.org/drawingml/2006/table">
            <a:tbl>
              <a:tblPr/>
              <a:tblGrid>
                <a:gridCol w="2496960"/>
                <a:gridCol w="2821320"/>
              </a:tblGrid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bonhidrat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a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Ş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ks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Şeker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er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61"/>
          <p:cNvSpPr/>
          <p:nvPr/>
        </p:nvSpPr>
        <p:spPr>
          <a:xfrm>
            <a:off x="0" y="239400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16000" y="3933720"/>
          <a:ext cx="5004000" cy="2735280"/>
        </p:xfrm>
        <a:graphic>
          <a:graphicData uri="http://schemas.openxmlformats.org/drawingml/2006/table">
            <a:tbl>
              <a:tblPr/>
              <a:tblGrid>
                <a:gridCol w="2502000"/>
                <a:gridCol w="250200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özel-Dils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İç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tıksal-Matematik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şilerar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örsel-Uzam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densel Kineste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üziksel-Ritm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ğ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114"/>
          <p:cNvSpPr/>
          <p:nvPr/>
        </p:nvSpPr>
        <p:spPr>
          <a:xfrm rot="16200000">
            <a:off x="-42120" y="1922760"/>
            <a:ext cx="230364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eleneksel 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Besinle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0" name="Text Box 115"/>
          <p:cNvSpPr/>
          <p:nvPr/>
        </p:nvSpPr>
        <p:spPr>
          <a:xfrm rot="16200000">
            <a:off x="69840" y="5481360"/>
            <a:ext cx="1296720" cy="1078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Sanat ve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Müzik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ı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1" name="Text Box 116"/>
          <p:cNvSpPr/>
          <p:nvPr/>
        </p:nvSpPr>
        <p:spPr>
          <a:xfrm rot="16200000">
            <a:off x="69840" y="4042800"/>
            <a:ext cx="1297080" cy="1078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eleneksel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2" name="Text Box 120"/>
          <p:cNvSpPr/>
          <p:nvPr/>
        </p:nvSpPr>
        <p:spPr>
          <a:xfrm rot="5400000">
            <a:off x="7889040" y="5668200"/>
            <a:ext cx="129708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Açıkhava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ı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3" name="Text Box 121"/>
          <p:cNvSpPr/>
          <p:nvPr/>
        </p:nvSpPr>
        <p:spPr>
          <a:xfrm rot="5400000">
            <a:off x="7889040" y="4228200"/>
            <a:ext cx="129708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Kişisel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4" name="AutoShape 123"/>
          <p:cNvSpPr/>
          <p:nvPr/>
        </p:nvSpPr>
        <p:spPr>
          <a:xfrm>
            <a:off x="1692360" y="126828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5" name="AutoShape 124"/>
          <p:cNvSpPr/>
          <p:nvPr/>
        </p:nvSpPr>
        <p:spPr>
          <a:xfrm>
            <a:off x="1692360" y="184464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6" name="AutoShape 125"/>
          <p:cNvSpPr/>
          <p:nvPr/>
        </p:nvSpPr>
        <p:spPr>
          <a:xfrm>
            <a:off x="1403280" y="42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7" name="AutoShape 131"/>
          <p:cNvSpPr/>
          <p:nvPr/>
        </p:nvSpPr>
        <p:spPr>
          <a:xfrm>
            <a:off x="1403280" y="486900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8" name="AutoShape 132"/>
          <p:cNvSpPr/>
          <p:nvPr/>
        </p:nvSpPr>
        <p:spPr>
          <a:xfrm>
            <a:off x="1403280" y="5516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9" name="AutoShape 133"/>
          <p:cNvSpPr/>
          <p:nvPr/>
        </p:nvSpPr>
        <p:spPr>
          <a:xfrm>
            <a:off x="1403280" y="623736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0" name="AutoShape 134"/>
          <p:cNvSpPr/>
          <p:nvPr/>
        </p:nvSpPr>
        <p:spPr>
          <a:xfrm rot="10800000">
            <a:off x="7090920" y="42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1" name="AutoShape 135"/>
          <p:cNvSpPr/>
          <p:nvPr/>
        </p:nvSpPr>
        <p:spPr>
          <a:xfrm rot="10800000">
            <a:off x="7093080" y="486864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2" name="AutoShape 136"/>
          <p:cNvSpPr/>
          <p:nvPr/>
        </p:nvSpPr>
        <p:spPr>
          <a:xfrm rot="10800000">
            <a:off x="7093080" y="551664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3" name="AutoShape 137"/>
          <p:cNvSpPr/>
          <p:nvPr/>
        </p:nvSpPr>
        <p:spPr>
          <a:xfrm rot="10800000">
            <a:off x="7093080" y="616572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4" name="Line 139"/>
          <p:cNvSpPr/>
          <p:nvPr/>
        </p:nvSpPr>
        <p:spPr>
          <a:xfrm>
            <a:off x="108000" y="5300640"/>
            <a:ext cx="89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ste devamlı hareket eden, hiçbir şey bulamazsa kalemini açmak için çöpe giden bir öğrenciyi öğretmeni suçladığında öğrenci şöyle demek istemektedir: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“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Canım öğretmenim. Be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kinestetik, harekete dayalı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bir öğrenciyi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Oysa sen susun, kıpırdamayın, çiçek olun diyorsun. Ama ben hareket ederek öğrenebiliri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Sen derste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sadece konuşuyorsun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Konuyu harekete dayalı işlesen ben de hareket ihtiyacımı gidermiş olacağım.”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İŞTE ÖRNEĞİ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NE YAPABİLİRİM?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Planlama ve sınıf içi uygulamaları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sekiz zeka alanını</a:t>
            </a:r>
            <a:r>
              <a:rPr b="1" lang="tr-TR" sz="2400" spc="-1" strike="noStrike">
                <a:solidFill>
                  <a:srgbClr val="000000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ikkate alarak yapabilirim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nun içi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öncelikle kendimin</a:t>
            </a:r>
            <a:r>
              <a:rPr b="1" lang="tr-TR" sz="2400" spc="-1" strike="noStrike">
                <a:solidFill>
                  <a:srgbClr val="000000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angi alanlarda baskın olduğumu ve dersi nasıl sunduğumu saptamalıyım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loom Taksonomisi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341360"/>
          <a:ext cx="9144000" cy="5058000"/>
        </p:xfrm>
        <a:graphic>
          <a:graphicData uri="http://schemas.openxmlformats.org/drawingml/2006/table">
            <a:tbl>
              <a:tblPr/>
              <a:tblGrid>
                <a:gridCol w="2700360"/>
                <a:gridCol w="33955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Bilişsel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Duyuşsal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Psiko-motor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ilg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l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arıl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av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epkide bulu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ılavuz denetiminde yap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gul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 ver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ceri haline getir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nal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rganize et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uruma uydu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entez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ler bütünüyle nitelenmişl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arat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lendir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u Tablo Ne İşime Yarar?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760" y="126828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 tablo öğretmenin soru sorma becerisinin önemini ön plana çıkarmaktadır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0" algn="just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Eğer öğrenciler sürekli düşük düzeyli sorularla karşılaşırsa düşük düzeyli düşünmeye yatkınlaş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Yüksek bilişsel düzeyli sorular öğrencileri yaratıcı ve çok yönlü düşünmeye yatkın kıl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Tüm öğretmenlerimiz asgari bir beceri olarak bilgi, kavrama, uygulama, analiz, sentez ve değerlendirme düzeylerinde otomatikleşmiş biçimde soru sorma becerilerine sahip olmalıd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LGİ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268280"/>
          <a:ext cx="9144000" cy="5079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m?,Ne?, Ne zaman?, Nerede?, Tanımla, Açıkla, Hangisi?, Ne kadar?, v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anımla, sırala, listele, seç, ifade et, söyle, bul, göster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üneş takvimini tarihte ilk kez kimler kullanmıştı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ağın tanımını derste geçen ifadesiyle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eşil bir bitkinin solunumda çıkardığı maddeler aşağıdaki seçeneklerden hangisinde verilmişt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LGİ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268280"/>
          <a:ext cx="8642160" cy="472464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size neyi hatırlatıyo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ned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u şekille anlatını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ile ilgili bir parçayı ezber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u nasıl taklit edersin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nerelerde kullanılı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Kimler pulla çok ilgilen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osta puluna yeni bir isim vermen gerekirse ne verir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AVRAM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68280"/>
          <a:ext cx="9144000" cy="5427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unun anlamı nedir?,…hakkındaki beklentilerin nelerdir? Sence….ne olacağa benziyor?,…olsaydı ne olurdu?, vb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ınıflandır, tartış, genelle, açıkla, tahmin et, örnek ver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azlarla sıvılar arasındaki farklar neler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nsanda böbreküstü bezleri, pankreas ve karaciğerin ortak görev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6dm,50cm’nin metre cinsinden ifadesi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AVRAMA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268280"/>
          <a:ext cx="8642160" cy="472464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7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endi kelimelerinle posta pulunu tarif eder mi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tarif eder mi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da olması gerekenleri çizin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yolculuğunu ritimle anlat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essiz sinema oyununda pulu anlat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üzerinde doğadan neleri kullana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rkadaşınla pulun tarifini yeniden yap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ingilizce karşılığını ya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UYGULAM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279440"/>
          <a:ext cx="9144000" cy="5178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ursa ne olabileceğini tahmin et, …ne zaman olurdu?, …halinde ne olacağını anlatınız, …yı kullanacak mısı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gula, birleştir, kur, inşa et, yap, üret, öngör, çöz, öğ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örtlüğün nazım şekl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Ekvator üzerinde bulunan yerlerde gece ile gündüzün ne zaman eşit olduğunu işlemle açıklayınız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ört işçi bir işi 48 saatte yapıyor. Aynı hızla çalışan 6 işçi, aynı işi kaç saatte yapa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UYGULAMA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052640"/>
          <a:ext cx="8642160" cy="531972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katettiği yol ile ilgili aşağıdaki problemi çözü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hayatımızdaki yerini bir broşür ile anlatı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üç boyutlu olarak nasıl çize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konu alan bir parçayı bir enstrüman ile çal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çık havada pulu toprağa çizerek anlat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da posta pulu gibi seyehat eden başka şeyler var mıdı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 günlük hayatımızda nelere benzete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 olmasaydı ne olurd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3120" y="1412640"/>
            <a:ext cx="8516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Tek yönlü beslenme vücutta istenmeyen sonuçlara yol aç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Zeka açısından tek yönlü beslenme de istenmeyen sonuçlara yol aç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ANALİZ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284120"/>
          <a:ext cx="9144000" cy="4507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duğunu hangi fikirler haklı gösteriyor?,…nın elemanları nelerdir?,…ile…arasındaki ilişki ne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yırt et, ilişkilendir, analiz et, karşılaştır, söküp parça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1) Büyük dolaşım ile küçük dolaşım arasındaki ilişkiyi açıklay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2) ….cümlesinin öznes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3) Aşağıdakilerden hangisinin sonucu hem 2 hem de 5 ile bölünemez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ANALİZ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157400"/>
          <a:ext cx="8642160" cy="551628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elemanları nelerd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kullanım alanlarına göre sınıflandır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resmettikleri alanlara göre nasıl sınıflandıra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anlatan bir parça yapsan, bu parçayı hangi enstrumanla çalarsı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iz pul olsaydınız üzerinizde neler bulunurd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n elemanlara ayrılması üzerinde dikkatle düşünü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rkadaşlarının pullarını bir araya toplayacak bir organizasyon ya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yıllara göre  gösterdiği değişiklikleri araştır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ENTEZ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284120"/>
          <a:ext cx="9144000" cy="4811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.yı daha farklı nasıl yaparsın?, …nın alternatifi nedir?, …yı nasıl düzenlersin?, …yı nerede üretirsi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uştur, planla, yarat, bestele, kompoze et, formüle 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1) Galatasaray’ın başarısını yansıtan bir kompozisyon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2) Aşağıda verilen şiire uygun bir beste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3) Trafik kazalarını azaltmak için yolların nasıl düzenlenmesi gerektiği konusunda bir model oluşturunu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ENTEZ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197000"/>
          <a:ext cx="8642160" cy="531828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5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ir posta pulunu oluşturan ögelerden gereksiz olanı var mıdır?Nede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hayatımızdaki yeri konusunda bir kompozisyon yaz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ilk siz yapsaydınız neleri farklı yapardını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konu alan bir beste yap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n yolculuğunu arkadaşlarınızı kullanarak sınıfta gösteriniz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içine doğadan neler katılabil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oplanan pulları sergileyen bir faaliyet planl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kullanarak bir oyun tasarlay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DEĞERLENDİRME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268280"/>
          <a:ext cx="9144000" cy="4846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an hangisi uygun olur?, …ları nasıl karşılaştırırsın?, …yapmak mantıklı mı?, …dan hangisi daha önemli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argıla, değerlendir, zıtlık oluştur, eleştir, yorumla,sav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Çıkarma işlemi yaparken sayı doğrusu kullanmak sence ne ölçüde yararlıdı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ermik santraller ile atom santrallerini enerji üretimi açısından nasıl değerlendirirsin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487e"/>
                </a:solidFill>
                <a:latin typeface="Neo Sans Intel"/>
              </a:rPr>
              <a:t>DEĞERLENDİRME Basamağı - Sorular</a:t>
            </a:r>
            <a:endParaRPr b="0" lang="en-US" sz="36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184400"/>
          <a:ext cx="8642160" cy="534816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örneklerini işledikleri temalar ve diğer özellikleri açısından tabloya dö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larının yarını hakkında neler düşünüyorsu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hayatımızdaki önemini artırabilir miyiz?Nası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üzerindeki elemanlar ses çıkarsaydı neler söylerlerd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u yolu daha işler hale nasıl getirirsiniz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 ile ilgili hangi olaylar posta pulu ile anlatılabilir? Nası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hayatımızdaki bu günü ve yarınını arkadaşlarına anl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önemini artırmak için ne tür oluşumlar desteklenebili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4638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487e"/>
                </a:solidFill>
                <a:latin typeface="Neo Sans Intel"/>
              </a:rPr>
              <a:t>Sorular ve Yorumlar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487e"/>
                </a:solidFill>
                <a:latin typeface="Neo Sans Intel"/>
              </a:rPr>
              <a:t>TEŞEKKÜRLER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IYASLAMA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484280"/>
          <a:ext cx="7921440" cy="4008600"/>
        </p:xfrm>
        <a:graphic>
          <a:graphicData uri="http://schemas.openxmlformats.org/drawingml/2006/table">
            <a:tbl>
              <a:tblPr/>
              <a:tblGrid>
                <a:gridCol w="4024080"/>
                <a:gridCol w="3897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ya İlişkin Eski Bakış Aç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ya İlişkin Yeni Bakış Aç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abitt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eliştirilebil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niceliksel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larak ölçülebil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ayısal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larak hesaplanamaz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tekild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çeşitli yollarla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rtaya konulabil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erçek yaşamdan soyutlanara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ölçülü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bağlam/gerçek yaşam durumunda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ölçülü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öğrencileri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ıralamak ve olası başarılarını kestirme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için kullanılı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bireylerin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izli güçlerini ve onların başarılı olabilecekleri farklı yolları anlama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için kullanılı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312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İnsan beyni 8 zeka türüne sahip olduğu halde geleneksel eğitim bunlardan sayısal ve sözel olanı dikkate almaktad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eyinler insanın doğasına ve yaradılışına aykırı olarak formatlanmaktadır.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 işlemin yıllardır sistematik olarak yapıldığını varsayarsak ulus olarak nasıl bir çıkmazda olduğumuzu ve yaratıcılığımızın nasıl öldürüldüğünü kavramak zor olmay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Howard Gardner’a Göre </a:t>
            </a:r>
            <a:br>
              <a:rPr sz="3200"/>
            </a:b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Zekanın Özellikleri</a:t>
            </a:r>
            <a:endParaRPr b="0" lang="en-US" sz="32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8720" y="126972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 kendi zekasını artırma ve geliştirme yeteneğine sahipt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Zeka çok yönlülük göstermesine rağmen, kendi içinde bir bütündü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 çeşitli zeka alanlarının tümüne sahipt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, zeka alanlarından her birini belli bir düzeyde geliştirebil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Çeşitli zeka alanları, genellikle bir arada belli bir uyum içinde çalış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ir insanın her alanda zeki olabilmesinin birçok yolu bulunmaktad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4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iki yılda bir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eğitim alanındaki bilgi birikimini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ikiye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katlandığı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düşünülecek olursa, geleneksel yöntemlerle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üçüncü bin yılın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kotarılamayacağı açı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ilgisayarların “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upgrade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” yapılması gibi bireylerin de kendilerini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upgrade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etmesi gerekmekt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a50021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Pentium 4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kapasitesindeki yeni nesil bir çocuk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386 işlemcili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bir anne ya da öğretmenden elbette hazzetmez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ZEKA ALANLARINI NASIL BELİRLERİM ?</a:t>
            </a:r>
            <a:endParaRPr b="0" lang="en-US" sz="32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Gözlem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İşaretleme Listesi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eceleme Ölçekleri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Anekdot Kaydı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Kimdir Bu?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Görüşme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R TESPİ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9080" y="1268280"/>
            <a:ext cx="860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Öğretmenlerin sosyo-kültürel ve akademik açıdan yetişme biçimleri, öğrencilerle olan iletişimlerini de biçimlendirmekt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Öğretmenler bilimsel ölçütler yerine kişisel ölçütlere göre öğretmenlik yaparlarsa, çok farklı öğretmen tipleri ortaya çık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enzeri farklılıklar, öğretmenlerin zeka alanları için de söz konusudur. Her öğretmen baskın olduğu zeka alanına göre ders sunma eğilimind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50021"/>
                </a:solidFill>
                <a:latin typeface="Neo Sans Intel"/>
              </a:rPr>
              <a:t>Oysa sınıfta </a:t>
            </a:r>
            <a:r>
              <a:rPr b="1" lang="tr-TR" sz="2800" spc="-1" strike="noStrike">
                <a:solidFill>
                  <a:srgbClr val="00487e"/>
                </a:solidFill>
                <a:latin typeface="Neo Sans Intel"/>
              </a:rPr>
              <a:t>sekiz zeka</a:t>
            </a:r>
            <a:r>
              <a:rPr b="0" lang="tr-TR" sz="2800" spc="-1" strike="noStrike">
                <a:solidFill>
                  <a:srgbClr val="a50021"/>
                </a:solidFill>
                <a:latin typeface="Neo Sans Intel"/>
              </a:rPr>
              <a:t> alanından öğrenciler bulunmaktadır.</a:t>
            </a:r>
            <a:endParaRPr b="0" lang="en-US" sz="2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İŞTE ÖRNEĞİ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6000" y="1268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ste dalan, hayal kuran bir öğrenciye öğretmen kızdığında o öğrenci ona şöyle demek istemektedir: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“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Sevgili öğretmenim, ben sıklıkla dalıyor ya da hayal kuruyoru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Çünkü sen dersini sadece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sözel dilsel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olarak sunuyorsun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Benim doğal öğrenme kanalım ola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görsel uyarıcılarla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dersini sunmadığın için ben de kendi ihtiyacımı hayal kurarak kendim gidermeye çalışıyoru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Anlasana.”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7:28:37Z</dcterms:created>
  <dc:creator>admin</dc:creator>
  <dc:description/>
  <dc:language>en-US</dc:language>
  <cp:lastModifiedBy>Levent Sağıroğlu</cp:lastModifiedBy>
  <dcterms:modified xsi:type="dcterms:W3CDTF">2009-01-23T19:06:00Z</dcterms:modified>
  <cp:revision>79</cp:revision>
  <dc:subject/>
  <dc:title>Slayt 1</dc:title>
</cp:coreProperties>
</file>